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7102475" cy="10213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763120"/>
            <a:ext cx="1828800" cy="75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705720" y="0"/>
            <a:ext cx="152280" cy="533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04920" y="380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Tahoma"/>
              </a:rPr>
              <a:t>Windows 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57200" y="1371600"/>
            <a:ext cx="60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kann vieles ! Aber manche wollen noch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Tahoma"/>
              </a:rPr>
              <a:t>MEHR</a:t>
            </a: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28600" y="1676520"/>
            <a:ext cx="6629400" cy="64008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04920" y="3581280"/>
            <a:ext cx="6248160" cy="24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*\\*\*\*.* /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Wildcards für alles : Domains, Servers, Users,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Groups, Shares, Files, Printers, Batch-Jobs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formatierbare Ausgabe mit Platzhaltern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selektiv nach allen Eigenschaften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als Kommando oder Batchfile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netzwerkweite Aktionen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Batchfile 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8001000"/>
            <a:ext cx="518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Tahoma"/>
              </a:rPr>
              <a:t>WilleTools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1219320"/>
            <a:ext cx="2666880" cy="69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nutzerverwal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e ändere ich bei 500 von meinen 1.000 NT Domänen-Benutzern den Laufwerksbuchstaben für das Home-Directory ? Wie sehe ich, wessen Account in meinen Domänen demnächst ablaufen wird ? Wie schaffe ich es, meine Benutzer in eine Liste zur Dokumentation und Weiterverarbeitung zu bekommen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uppenverwal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e sehe ich mit einem einzigen Befehl, wer lokaler Administrator auf den 500 Workstations meines Netzes ist ? Oder in welchen Gruppen ein bestimmter Benutzer Mitglied ist, direkt oder indirekt, auch in lokalen Gruppen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reigabeverwal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e übernehme ich 500 Freigaben von einem Rechner zum anderen ? Wie verschaffe ich mir einen Gesamtüberblick über alle Freigaben im Netzwerk ? Welche Rechte hat ein bestimmter Benutzer auf Freigabeebene netzwerkwei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uckerverwal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e kontrolliere ich NT-Drucker-Queues von der Kommandozeile aus ? Wie übernehme ich alle Drucker von einem Rechner zum anderen ? Wie lösche ich alle Jobs auf allen Druckern aller Server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Fragen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8350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und Antworten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1219320"/>
            <a:ext cx="2743200" cy="67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ftware-Verteilung und Online-Inven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e kontrolliere ich Software-Installation und Updates automatisch, ohne gleich aufgeblähte Management-Systeme einzuführen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tei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e kann ich den Owner einer NTFS-Datei setzen ? Wie erkläre ich beim Ausscheiden eines Mitarbeiters seinen Nachfolger zum Owner der Dateien ? Wie bekomme ich ordentliche Statistiken über die Dateien im System ? Welcher Benutzer belegt wieviel Platz ? Welche Dateien wurden länger nicht mehr angefaßt ? Wie lösche ich die ? Wie halte ich Verzeichnisse meiner Außenstellen auf Stand ? Inklusive Zugriffsrechte ? Und nur die Änderungen bitt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tch-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e bekomme ich zuverlässige Batch-Jobs, die ich auch remote kontrollieren kann ? Kann ich kontrollieren, ob ein Job noch läuft ? Kann ich einen Job abbrechen ? Kann ich für Jobs verschiedene Benutzerkennungen verwenden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ardware-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e kann ich mit Hardware-Profilen eigene Funktionalitäten verknüpfen, z.B. die IP-Adresse wechseln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371600"/>
            <a:ext cx="2667240" cy="71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A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ächtiger Batch-Job Scheduler mit voller Jobkontrolle, lokal und remote. Auch als administrativer Workstation-Agent einsetz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PATCH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ontrolliert Software-Installationen und Updates. Arbeitet mit einer Vielzahl von Bedingungen, an die man die Auslieferung von Paketen knüpfen kan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USE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waltet die Benutzer von eigenen und entfernten Domänen, Servern und Workstations. Wildcards, Kriterien und Formate unterstützen den Administrator optim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GROUP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gänzt WUSER um die Anzeige von Gruppeneigenschaf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SHAR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waltet die Freigaben von eigenen und entfernten Servern und Workstations. Die formatierte Ausgabe ermöglicht Umleitung in eine Batchdatei zum späteren Wiederherstellen der kompletten Freigaben-Konfiguration eines Rech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PRINTE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waltet die Drucker-Queues von eigenen und entfernten Servern und Workstations. Unterstützt, analog zu WSHARE das Abspeichern und Wiederherstellen von Queue-Umbgeb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808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WilleTools 2 im 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1346040"/>
            <a:ext cx="2743200" cy="72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FIL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waltet Dateien und gibt dem Administrator die Möglichkeit, sämtliche Dateieigenschaften als Selektionskriterium zu verwenden. Kann zum Setzen des Datei-Eigentümers verwendet werden. Unverzichtbar beim Verzeichnisabgleich zwischen Servern sowie zur Unterstützung von Aufräumaktio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REG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handelt die Registraturen von Rechnern, wildcards können verwende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SPAT32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ur Realisierung von Datei-Roaming und Logoff-Logik. Läuft im Benutzer-Kon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PROFI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iert beim Booten je nach HW-Profil eine REG-Date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illeTools 1.4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e 16-Bit Programme aus der WilleTools Kollektion 1.4 sind in den WilleTools 2 enthal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pdat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nn innerhalb eines Jahres, nachdem Sie eine Toolbox-Lizenz erworben haben, neue Programme hinzukommen, dürfen Sie sie ohne Mehrkosten mitbenutz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d mehr…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n kompletten Umfang der WilleTools entnehmen Sie bitte der Produktdoku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05320" y="5335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WilleTools für Windows 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2362320"/>
            <a:ext cx="295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gramme für die Administration großer Windows NT Net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828800" y="4267080"/>
          <a:ext cx="4419720" cy="1401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4267080"/>
                    <a:ext cx="441972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609480" y="3733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ise zzgl. MwSt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7467480"/>
            <a:ext cx="26668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WSS Wille Software &amp; Systeme Gm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m alten Backhaus 4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-67593 Westhof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l.: +49 6244 905245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ax: +49 6244 9052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mail: wille@t-online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estlogo" descr=""/>
          <p:cNvPicPr/>
          <p:nvPr/>
        </p:nvPicPr>
        <p:blipFill>
          <a:blip r:embed="rId4"/>
          <a:stretch/>
        </p:blipFill>
        <p:spPr>
          <a:xfrm>
            <a:off x="609480" y="7543800"/>
            <a:ext cx="1143000" cy="1085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267080" y="7467480"/>
            <a:ext cx="2438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nkverbindung: Wormser Volksbank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LZ 5539 0000 Konto-Nr.: 344 16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st.-ID DE183 995 9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mtsgericht Worms HRB 16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eschäftsführer: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tthias W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WilleToolsLogo" descr=""/>
          <p:cNvPicPr/>
          <p:nvPr/>
        </p:nvPicPr>
        <p:blipFill>
          <a:blip r:embed="rId5"/>
          <a:stretch/>
        </p:blipFill>
        <p:spPr>
          <a:xfrm>
            <a:off x="609480" y="6094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5943600"/>
            <a:ext cx="243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Weitere Preise auf Anfrage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Änderungen vorbehalt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3T16:35:48Z</dcterms:created>
  <dc:creator>Martin Wille</dc:creator>
  <dc:description/>
  <dc:language>en-US</dc:language>
  <cp:lastModifiedBy>Martin Wille</cp:lastModifiedBy>
  <cp:lastPrinted>1997-11-24T08:05:02Z</cp:lastPrinted>
  <dcterms:modified xsi:type="dcterms:W3CDTF">1997-11-26T11:11:09Z</dcterms:modified>
  <cp:revision>7</cp:revision>
  <dc:subject/>
  <dc:title>No Slide Title</dc:title>
</cp:coreProperties>
</file>